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3F53-7546-41F1-88B3-524C424B6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AA14-A2C3-45DD-B967-64031C7AC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:  +34.72 degrees and -86.62 degrees.  When inputting to a GIS, the + is assum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356C-0F09-490B-8624-187C46D88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F815-679F-4AB0-8729-9A98B6A5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F79E-B1E4-49DC-AAB0-556A6682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0B6B-9871-4BFA-A5DD-6281B60B2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90D8-6D42-49F7-AA8F-D38438F6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3BC9-05BD-495A-9121-699672CA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FD6A-090A-4176-ACB6-51C02318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90F4-A374-42FA-A214-8FB37293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D421-12ED-4E60-B9C6-70AB633E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7C9D-95AE-4CDE-B138-4EF59211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789E-9138-4C23-A397-B02BCDFE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4F25-32AF-4B98-98B8-52A559BA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2D86-6A17-4F52-8B20-BCEEFB2BE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longitude_lat"/>
          <p:cNvPicPr/>
          <p:nvPr/>
        </p:nvPicPr>
        <p:blipFill>
          <a:blip r:embed="rId1"/>
          <a:stretch/>
        </p:blipFill>
        <p:spPr>
          <a:xfrm>
            <a:off x="685800" y="14400"/>
            <a:ext cx="7620120" cy="6843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685440"/>
            <a:ext cx="304812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t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6095880" y="609480"/>
            <a:ext cx="30481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ong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838080" y="685800"/>
            <a:ext cx="7315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LOBE website has buttons to click for North and South, when creating your Study Site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rcRect l="0" t="7187" r="3431" b="0"/>
          <a:stretch/>
        </p:blipFill>
        <p:spPr>
          <a:xfrm>
            <a:off x="533520" y="1676520"/>
            <a:ext cx="7772400" cy="2952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457200" y="4876920"/>
            <a:ext cx="8153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you don’t have to worry about “+” or “-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1066680" y="457200"/>
            <a:ext cx="7162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actions of a deg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762120" y="1600200"/>
            <a:ext cx="7696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gree/minute/second = XX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xx’ xx’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990720" y="2209680"/>
            <a:ext cx="69339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inut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1/6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a degree – 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1/6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a min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10"/>
          <p:cNvSpPr txBox="1"/>
          <p:nvPr/>
        </p:nvSpPr>
        <p:spPr>
          <a:xfrm>
            <a:off x="1676520" y="1523880"/>
            <a:ext cx="5486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>
                    <a:alpha val="49000"/>
                  </a:srgbClr>
                </a:solidFill>
                <a:latin typeface="Arial"/>
              </a:rPr>
              <a:t>X</a:t>
            </a:r>
            <a:endParaRPr b="0" lang="en-US" sz="1800" spc="1" strike="noStrike">
              <a:ln w="0">
                <a:noFill/>
              </a:ln>
              <a:solidFill>
                <a:srgbClr val="ff6600">
                  <a:alpha val="49000"/>
                </a:srgbClr>
              </a:solidFill>
              <a:latin typeface="Arial"/>
              <a:ea typeface="Arial"/>
            </a:endParaRPr>
          </a:p>
        </p:txBody>
      </p:sp>
      <p:grpSp>
        <p:nvGrpSpPr>
          <p:cNvPr id="104" name="Group 12"/>
          <p:cNvGrpSpPr/>
          <p:nvPr/>
        </p:nvGrpSpPr>
        <p:grpSpPr>
          <a:xfrm>
            <a:off x="762120" y="3276720"/>
            <a:ext cx="7238880" cy="1739520"/>
            <a:chOff x="762120" y="3276720"/>
            <a:chExt cx="7238880" cy="1739520"/>
          </a:xfrm>
        </p:grpSpPr>
        <p:sp>
          <p:nvSpPr>
            <p:cNvPr id="105" name="Text Box 7"/>
            <p:cNvSpPr/>
            <p:nvPr/>
          </p:nvSpPr>
          <p:spPr>
            <a:xfrm>
              <a:off x="1066680" y="3733920"/>
              <a:ext cx="678204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Decimal Degrees = XX.xxxxx</a:t>
              </a:r>
              <a:r>
                <a:rPr b="0" lang="en-US" sz="3200" spc="-1" strike="noStrike" baseline="30000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8"/>
            <p:cNvSpPr/>
            <p:nvPr/>
          </p:nvSpPr>
          <p:spPr>
            <a:xfrm>
              <a:off x="2666880" y="3276720"/>
              <a:ext cx="342900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Arial"/>
                </a:rPr>
                <a:t>We use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"/>
            <p:cNvSpPr/>
            <p:nvPr/>
          </p:nvSpPr>
          <p:spPr>
            <a:xfrm>
              <a:off x="762120" y="4495680"/>
              <a:ext cx="72388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86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28’ 32”  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Arial"/>
                </a:rPr>
                <a:t>is </a:t>
              </a:r>
              <a:r>
                <a:rPr b="0" i="1" lang="en-US" sz="2800" spc="-1" strike="noStrike" u="sng">
                  <a:solidFill>
                    <a:srgbClr val="ff0000"/>
                  </a:solidFill>
                  <a:uFillTx/>
                  <a:latin typeface="Arial"/>
                </a:rPr>
                <a:t>NOT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Arial"/>
                </a:rPr>
                <a:t> EQUAL to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86.2832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13"/>
          <p:cNvSpPr/>
          <p:nvPr/>
        </p:nvSpPr>
        <p:spPr>
          <a:xfrm>
            <a:off x="1066680" y="5334120"/>
            <a:ext cx="6705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 sure your GPS is set for decimal degre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ed hel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1524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out “Setting up your GPS” at www.amsti.org - go to “Teaching Material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AMSTI- GLOBE specialis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914400" y="3429000"/>
            <a:ext cx="3276720" cy="132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erry Cob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rry@amsti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4724280" y="3429000"/>
            <a:ext cx="327672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ynn Vaug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ynn@amsti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ay to describe our location on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ls how far north/south and east/w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call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ordin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905120" y="609480"/>
            <a:ext cx="51051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titude/Long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4419720" y="4114800"/>
            <a:ext cx="0" cy="19810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3429000" y="5105520"/>
            <a:ext cx="19810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267080" y="3733920"/>
            <a:ext cx="304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486400" y="4876920"/>
            <a:ext cx="304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3048120" y="4876920"/>
            <a:ext cx="380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4267080" y="6095880"/>
            <a:ext cx="304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titude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latitude"/>
          <p:cNvPicPr/>
          <p:nvPr/>
        </p:nvPicPr>
        <p:blipFill>
          <a:blip r:embed="rId1"/>
          <a:stretch/>
        </p:blipFill>
        <p:spPr>
          <a:xfrm>
            <a:off x="3048120" y="1295280"/>
            <a:ext cx="3197160" cy="3267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2" name="Text Box 6"/>
          <p:cNvSpPr/>
          <p:nvPr/>
        </p:nvSpPr>
        <p:spPr>
          <a:xfrm>
            <a:off x="1219320" y="4800600"/>
            <a:ext cx="6858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ines run east and west, but they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meas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grees north or south of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qu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6781680" y="2743200"/>
            <a:ext cx="1981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quator – 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 flipH="1">
            <a:off x="5790960" y="3048120"/>
            <a:ext cx="9903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ngitude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longitude"/>
          <p:cNvPicPr/>
          <p:nvPr/>
        </p:nvPicPr>
        <p:blipFill>
          <a:blip r:embed="rId1"/>
          <a:stretch/>
        </p:blipFill>
        <p:spPr>
          <a:xfrm>
            <a:off x="2743200" y="1447920"/>
            <a:ext cx="3733920" cy="3287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7" name="Text Box 5"/>
          <p:cNvSpPr/>
          <p:nvPr/>
        </p:nvSpPr>
        <p:spPr>
          <a:xfrm>
            <a:off x="457200" y="5410080"/>
            <a:ext cx="8305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north and south.  Where do all the lines me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457200" y="1600200"/>
            <a:ext cx="198108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stead of measuring from the equator, longitude is measured from t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rime meridian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line running through Greenwich, Engl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6705720" y="2590920"/>
            <a:ext cx="2286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ime Meridian – 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 flipH="1" flipV="1">
            <a:off x="4419720" y="2666880"/>
            <a:ext cx="2286000" cy="152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combining latitude and long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lat_long"/>
          <p:cNvPicPr/>
          <p:nvPr/>
        </p:nvPicPr>
        <p:blipFill>
          <a:blip r:embed="rId1"/>
          <a:stretch/>
        </p:blipFill>
        <p:spPr>
          <a:xfrm>
            <a:off x="1828800" y="1447920"/>
            <a:ext cx="5334120" cy="29718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1447920" y="4876920"/>
            <a:ext cx="6553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can pinpoint any location on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measure latitude and longitude in degr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04920" y="5181480"/>
            <a:ext cx="86104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360 degrees in a circ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degree is 1/36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way around the ea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latitude2"/>
          <p:cNvPicPr/>
          <p:nvPr/>
        </p:nvPicPr>
        <p:blipFill>
          <a:blip r:embed="rId1"/>
          <a:stretch/>
        </p:blipFill>
        <p:spPr>
          <a:xfrm>
            <a:off x="2209680" y="1295280"/>
            <a:ext cx="48769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identify points on the Earth by specifying how many degrees North or South (of the equator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457200" y="4495680"/>
            <a:ext cx="78487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how many degrees East or West (of the prime meridian) the points are loc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latlong_detroit"/>
          <p:cNvPicPr/>
          <p:nvPr/>
        </p:nvPicPr>
        <p:blipFill>
          <a:blip r:embed="rId1"/>
          <a:stretch/>
        </p:blipFill>
        <p:spPr>
          <a:xfrm>
            <a:off x="2209680" y="1447920"/>
            <a:ext cx="472464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lat_long"/>
          <p:cNvPicPr/>
          <p:nvPr/>
        </p:nvPicPr>
        <p:blipFill>
          <a:blip r:embed="rId1"/>
          <a:stretch/>
        </p:blipFill>
        <p:spPr>
          <a:xfrm>
            <a:off x="1752480" y="1752480"/>
            <a:ext cx="5639040" cy="31417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1371600" y="457200"/>
            <a:ext cx="6858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way to describe coordinates is to use a “+” or “-” instead of north, south, east, or w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28600" y="2057400"/>
            <a:ext cx="137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th is “+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52280" y="3886200"/>
            <a:ext cx="137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th is “-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7620120" y="3886200"/>
            <a:ext cx="137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st is “-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7543800" y="2057400"/>
            <a:ext cx="137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st is “+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 flipV="1">
            <a:off x="1523880" y="2165040"/>
            <a:ext cx="1752840" cy="120600"/>
          </a:xfrm>
          <a:prstGeom prst="line">
            <a:avLst/>
          </a:prstGeom>
          <a:ln w="572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>
            <a:off x="1447920" y="4114800"/>
            <a:ext cx="175248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 flipH="1">
            <a:off x="7346520" y="2438280"/>
            <a:ext cx="577800" cy="107964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3"/>
          <p:cNvSpPr/>
          <p:nvPr/>
        </p:nvSpPr>
        <p:spPr>
          <a:xfrm flipH="1" flipV="1">
            <a:off x="4876920" y="3581280"/>
            <a:ext cx="2743200" cy="45720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609480" y="5181480"/>
            <a:ext cx="7772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computer programs, such as GIS software, use this 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1371600" y="533520"/>
            <a:ext cx="67057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are inputting data into a GIS program, you will need to use “+” or “-” 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Ala district map"/>
          <p:cNvPicPr/>
          <p:nvPr/>
        </p:nvPicPr>
        <p:blipFill>
          <a:blip r:embed="rId1"/>
          <a:srcRect l="31663" t="8004" r="29899" b="0"/>
          <a:stretch/>
        </p:blipFill>
        <p:spPr>
          <a:xfrm>
            <a:off x="1905120" y="1600200"/>
            <a:ext cx="2422440" cy="34290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7"/>
          <p:cNvSpPr/>
          <p:nvPr/>
        </p:nvSpPr>
        <p:spPr>
          <a:xfrm>
            <a:off x="3048120" y="18288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4648320" y="2362320"/>
            <a:ext cx="3504960" cy="12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ntsville, Alabama is 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4.7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o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6.6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W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 flipH="1" flipV="1">
            <a:off x="3276720" y="1980720"/>
            <a:ext cx="1295280" cy="838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523880" y="5257800"/>
            <a:ext cx="6324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ould you write this using “+” and “-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20:53:15Z</dcterms:created>
  <dc:creator>Jerry W. Cobbs</dc:creator>
  <dc:description/>
  <dc:language>en-US</dc:language>
  <cp:lastModifiedBy>lfowler</cp:lastModifiedBy>
  <dcterms:modified xsi:type="dcterms:W3CDTF">2011-07-15T19:18:07Z</dcterms:modified>
  <cp:revision>9</cp:revision>
  <dc:subject/>
  <dc:title>Latitude/Longitude</dc:title>
</cp:coreProperties>
</file>